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8.png" ContentType="image/png"/>
  <Override PartName="/ppt/media/image6.jpeg" ContentType="image/jpeg"/>
  <Override PartName="/ppt/media/breeze.wav" ContentType="audio/x-wav"/>
  <Override PartName="/ppt/media/image10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19.gif" ContentType="image/gif"/>
  <Override PartName="/ppt/media/image17.gif" ContentType="image/gif"/>
  <Override PartName="/ppt/media/image16.gif" ContentType="image/gif"/>
  <Override PartName="/ppt/media/image4.jpeg" ContentType="image/jpeg"/>
  <Override PartName="/ppt/media/image2.png" ContentType="image/png"/>
  <Override PartName="/ppt/media/image20.png" ContentType="image/png"/>
  <Override PartName="/ppt/media/image15.gif" ContentType="image/gif"/>
  <Override PartName="/ppt/media/image14.gif" ContentType="image/gif"/>
  <Override PartName="/ppt/media/image18.gif" ContentType="image/gif"/>
  <Override PartName="/ppt/media/image13.jpeg" ContentType="image/jpeg"/>
  <Override PartName="/ppt/media/image3.gif" ContentType="image/gi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09C-FF96-4BEF-B5EB-7B87100A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CE9-4C57-40AB-AD95-DCAC6E89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AB8-37E8-4E9B-96E7-3CF09E3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8EC-4DC5-4999-84FD-68B845BC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B3FA-A059-4A86-B1A9-5142B69F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784-731B-452D-8AF1-A091E01A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F076-4F31-40AB-A9AA-EF13C4C7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ADF-FC51-4524-9A0F-0EBA78F1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A58D-9915-4237-9F74-2EA42964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698-8521-43FA-A137-AF98A1A6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1FB-4D02-442C-936D-C763157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66C-E9C0-4B39-94D7-58C7AEF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61DB-09DD-4C8A-BC5F-3002D89F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2743200"/>
            <a:ext cx="853452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How I Want My Christmas To Be........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By.Elaina Den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advTm="5000">
    <p:comb dir="horz"/>
    <p:sndAc>
      <p:stSnd>
        <p:snd r:embed="rId2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cap="rnd" w="9360">
            <a:solidFill>
              <a:srgbClr val="0066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put up Christmas deco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 Christma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pp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y a couple gifts for the homeless that don’t ha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 sure the house is super cle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p prepare a big hot m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9051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295280" y="533520"/>
            <a:ext cx="662940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51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Wat I do Before CHRISTMAS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4724280"/>
            <a:ext cx="1057320" cy="129564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 rot="21118800">
            <a:off x="1676160" y="60912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7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ifferent Things I Wou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LIKE 4 CHRISTMAS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76720" y="3352680"/>
            <a:ext cx="2666880" cy="3048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53080" y="3276720"/>
            <a:ext cx="970200" cy="1096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34320" y="167652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066680" y="5105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7162920" y="5029200"/>
            <a:ext cx="1218960" cy="114300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amily to get a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I want for 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ake a ride and see all my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little ge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expect not to get up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0"/>
            <a:ext cx="6248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gs I Expect....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105520" y="5105520"/>
            <a:ext cx="1114200" cy="1323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5880" y="1523880"/>
            <a:ext cx="2095560" cy="13906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64000">
            <a:off x="455400" y="-9000"/>
            <a:ext cx="2895480" cy="688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541008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4290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124080" y="495288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aving FUN Wit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y bROTHER.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9200" cy="4953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533520"/>
            <a:ext cx="31244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781680" y="4343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gift"/>
          <p:cNvPicPr/>
          <p:nvPr/>
        </p:nvPicPr>
        <p:blipFill>
          <a:blip r:embed="rId4"/>
          <a:stretch/>
        </p:blipFill>
        <p:spPr>
          <a:xfrm>
            <a:off x="2133720" y="5867280"/>
            <a:ext cx="1752480" cy="99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380880"/>
            <a:ext cx="5181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ave A Wonderful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HRISTMAS....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advTm="3000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7:06:50Z</dcterms:created>
  <dc:creator>765892</dc:creator>
  <dc:description/>
  <dc:language>en-US</dc:language>
  <cp:lastModifiedBy>765892</cp:lastModifiedBy>
  <dcterms:modified xsi:type="dcterms:W3CDTF">2008-12-11T18:03:52Z</dcterms:modified>
  <cp:revision>6</cp:revision>
  <dc:subject/>
  <dc:title>Slide 1</dc:title>
</cp:coreProperties>
</file>